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5.png" ContentType="image/png"/>
  <Override PartName="/ppt/media/image9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6.wmf" ContentType="image/x-wmf"/>
  <Override PartName="/ppt/media/image11.png" ContentType="image/png"/>
  <Override PartName="/ppt/media/image29.wmf" ContentType="image/x-wmf"/>
  <Override PartName="/ppt/media/image12.png" ContentType="image/png"/>
  <Override PartName="/ppt/media/image34.jpeg" ContentType="image/jpeg"/>
  <Override PartName="/ppt/media/image40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38.png" ContentType="image/png"/>
  <Override PartName="/ppt/media/image41.wmf" ContentType="image/x-wmf"/>
  <Override PartName="/ppt/media/image39.wmf" ContentType="image/x-wmf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12263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136-A53E-4EE2-9E13-9EF77CE7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368-616C-4094-809F-8556E83D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5B3-F1DC-44E7-B969-27D32120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A91-3D24-47C9-8C54-20C691E5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04E-7ECE-400D-924F-DFAD23CB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B09-6596-460B-AA1F-30DF10A6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BC89-7A7A-439D-BCAE-9C9C7C5D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D68-3531-4950-AB8E-1C8FC64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50E7-F3F1-42E3-ACCD-2FD821B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B23-5F4D-4936-8C00-998BB71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52E-DF7A-41CC-A511-746A686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5CB-93CF-4AA2-871C-0718934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A8A1-2D35-4D8A-81B2-733FD31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CC9-112C-4FAC-B4C3-4546209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ECFA-8B2A-44F0-9BB1-9239B6B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F8B9-6367-458B-85D4-6538F046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BA7-66F1-4719-B825-DAAB4C06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716-89FC-46F0-B7AC-A0DB33B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0AE-5186-49A3-BE0C-78C0F35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3D5-E670-420D-A0EB-4C64A81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402-5179-4EEC-BCE7-D519AD71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833-1B21-4EB7-AC7C-70A95A9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062-08C6-4C21-A256-8380756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75A-60E4-4CE5-BF6D-D112E9E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8A00-291F-4B32-B416-AA2508CF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DC84-E8E0-40D7-A7A8-276A58EC6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uhsd.net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ajon Valley High School Guidance Depart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Georgia"/>
              </a:rPr>
              <a:t>BE BRAVE</a:t>
            </a:r>
            <a:endParaRPr b="0" lang="en-US" sz="88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20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54097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t your finger tips from any computer with internet ac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5" descr="C:\Documents and Settings\Vsliwa\Local Settings\Temporary Internet Files\Content.IE5\L5R3O6VT\MP900409652[1]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2012-2013 Course Selections</a:t>
            </a:r>
            <a:br>
              <a:rPr sz="3600"/>
            </a:b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using </a:t>
            </a:r>
            <a:r>
              <a:rPr b="0" i="1" lang="en-US" sz="2800" spc="-1" strike="noStrike">
                <a:solidFill>
                  <a:srgbClr val="e5ffff"/>
                </a:solidFill>
                <a:latin typeface="Arial"/>
              </a:rPr>
              <a:t>Career Cruising’s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ourse Planner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your courses for next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your high school education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courses you have completed, are currently taking or plan to take in the fu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A-G course requirements and check your completion stat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NCAA requirements and check your completion stat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Access Career Cruising and Course Planner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2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guhsd.n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lect the students tab and click on the             lin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gin with your username and passw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nam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C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ID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word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puter lo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will go to you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ortfolio Homep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from the list on the 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nd side of the scr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6705720" y="1905120"/>
            <a:ext cx="1218960" cy="349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2209680" y="4648320"/>
            <a:ext cx="1981440" cy="36828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17" descr="Portfolio.png"/>
          <p:cNvPicPr/>
          <p:nvPr/>
        </p:nvPicPr>
        <p:blipFill>
          <a:blip r:embed="rId4"/>
          <a:stretch/>
        </p:blipFill>
        <p:spPr>
          <a:xfrm>
            <a:off x="4876920" y="3581280"/>
            <a:ext cx="38862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be focusing on the upcoming school year in the </a:t>
            </a:r>
            <a:r>
              <a:rPr b="0" lang="en-CA" sz="2200" spc="-1" strike="noStrike">
                <a:solidFill>
                  <a:srgbClr val="ffffff"/>
                </a:solidFill>
                <a:latin typeface="Tahoma"/>
              </a:rPr>
              <a:t>dashed box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example it is Year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ear 9 includes courses, grades and credits completed as well as courses in progr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 the far right, you will see a credit summary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low that are recommended CLUSTERS or PATHWAYS based on your Career Matchmaker result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Content Placeholder 7" descr="Course Planner.png"/>
          <p:cNvPicPr/>
          <p:nvPr/>
        </p:nvPicPr>
        <p:blipFill>
          <a:blip r:embed="rId1"/>
          <a:stretch/>
        </p:blipFill>
        <p:spPr>
          <a:xfrm>
            <a:off x="4495680" y="1752480"/>
            <a:ext cx="4421160" cy="4503960"/>
          </a:xfrm>
          <a:prstGeom prst="rect">
            <a:avLst/>
          </a:prstGeom>
          <a:ln w="0">
            <a:noFill/>
          </a:ln>
        </p:spPr>
      </p:pic>
      <p:cxnSp>
        <p:nvCxnSpPr>
          <p:cNvPr id="226" name="Straight Arrow Connector 12"/>
          <p:cNvCxnSpPr/>
          <p:nvPr/>
        </p:nvCxnSpPr>
        <p:spPr>
          <a:xfrm flipH="1" flipV="1">
            <a:off x="6247800" y="5257080"/>
            <a:ext cx="22932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quired Courses (Yellow Slot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7960" y="411444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l courses available to fulfill the requirement are in yellow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any course to review the description &amp; prerequisit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plus ‘+’ icon next to the course you want to select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560" y="1219320"/>
            <a:ext cx="4190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on the Course Planner tab &amp; begin selecting cours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add a required course, click the plus ‘+’ icon that appears on the right of any yellow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Content Placeholder 11" descr="English 3 selection.png"/>
          <p:cNvPicPr/>
          <p:nvPr/>
        </p:nvPicPr>
        <p:blipFill>
          <a:blip r:embed="rId1"/>
          <a:stretch/>
        </p:blipFill>
        <p:spPr>
          <a:xfrm>
            <a:off x="152280" y="3809880"/>
            <a:ext cx="4496040" cy="278136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4" descr="grad req selection-YELLOW SLOT.JPG"/>
          <p:cNvPicPr/>
          <p:nvPr/>
        </p:nvPicPr>
        <p:blipFill>
          <a:blip r:embed="rId2"/>
          <a:stretch/>
        </p:blipFill>
        <p:spPr>
          <a:xfrm>
            <a:off x="4724280" y="1219320"/>
            <a:ext cx="3581640" cy="2616120"/>
          </a:xfrm>
          <a:prstGeom prst="rect">
            <a:avLst/>
          </a:prstGeom>
          <a:ln w="0">
            <a:noFill/>
          </a:ln>
        </p:spPr>
      </p:pic>
      <p:cxnSp>
        <p:nvCxnSpPr>
          <p:cNvPr id="232" name="Straight Arrow Connector 16"/>
          <p:cNvCxnSpPr/>
          <p:nvPr/>
        </p:nvCxnSpPr>
        <p:spPr>
          <a:xfrm flipH="1" flipV="1">
            <a:off x="4494960" y="5104800"/>
            <a:ext cx="305640" cy="99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5ffff"/>
                </a:solidFill>
                <a:latin typeface="Arial"/>
              </a:rPr>
              <a:t>Required Courses and Co-Requisites</a:t>
            </a:r>
            <a:endParaRPr b="0" lang="en-US" sz="3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will return to the Course Planner ta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course you selected and all co-requisites will appe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Content Placeholder 4" descr="Co-requisite.png"/>
          <p:cNvPicPr/>
          <p:nvPr/>
        </p:nvPicPr>
        <p:blipFill>
          <a:blip r:embed="rId1"/>
          <a:stretch/>
        </p:blipFill>
        <p:spPr>
          <a:xfrm>
            <a:off x="2895480" y="2666880"/>
            <a:ext cx="56390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lective Courses (White Slot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29492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dd an elective course, click the plus ‘+’ icon that appears on the right of any white sl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Content Placeholder 8" descr="Elective selection.JPG"/>
          <p:cNvPicPr/>
          <p:nvPr/>
        </p:nvPicPr>
        <p:blipFill>
          <a:blip r:embed="rId1"/>
          <a:stretch/>
        </p:blipFill>
        <p:spPr>
          <a:xfrm>
            <a:off x="5867280" y="1066680"/>
            <a:ext cx="1600200" cy="2313000"/>
          </a:xfrm>
          <a:prstGeom prst="rect">
            <a:avLst/>
          </a:prstGeom>
          <a:ln w="0">
            <a:noFill/>
          </a:ln>
        </p:spPr>
      </p:pic>
      <p:pic>
        <p:nvPicPr>
          <p:cNvPr id="239" name="Content Placeholder 9" descr="Elective Discipline selection.png"/>
          <p:cNvPicPr/>
          <p:nvPr/>
        </p:nvPicPr>
        <p:blipFill>
          <a:blip r:embed="rId2"/>
          <a:stretch/>
        </p:blipFill>
        <p:spPr>
          <a:xfrm>
            <a:off x="228600" y="3809880"/>
            <a:ext cx="4622760" cy="2514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876560" y="365724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 sure the View By: is set to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isciplin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to star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the drop down menu to explore Discipline typ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are a 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grader, consider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joinin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a CTE or Science Pathway that matches your inter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lective Course Selection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1143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any course to review the description &amp; prerequisites and note the Grade restriction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plus ‘+’ icon next to the course you want to select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Content Placeholder 6" descr="AME options.png"/>
          <p:cNvPicPr/>
          <p:nvPr/>
        </p:nvPicPr>
        <p:blipFill>
          <a:blip r:embed="rId1"/>
          <a:stretch/>
        </p:blipFill>
        <p:spPr>
          <a:xfrm>
            <a:off x="4648320" y="1219320"/>
            <a:ext cx="4308480" cy="2361960"/>
          </a:xfrm>
          <a:prstGeom prst="rect">
            <a:avLst/>
          </a:prstGeom>
          <a:ln w="0">
            <a:noFill/>
          </a:ln>
        </p:spPr>
      </p:pic>
      <p:pic>
        <p:nvPicPr>
          <p:cNvPr id="244" name="Content Placeholder 10" descr="AME Selection.png"/>
          <p:cNvPicPr/>
          <p:nvPr/>
        </p:nvPicPr>
        <p:blipFill>
          <a:blip r:embed="rId2"/>
          <a:stretch/>
        </p:blipFill>
        <p:spPr>
          <a:xfrm>
            <a:off x="152280" y="3657600"/>
            <a:ext cx="4953240" cy="281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5181120" y="3733560"/>
            <a:ext cx="3962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return to the Course Planner ta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course you selected &amp;  all co-requisites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selected a pathway, you should add the corresponding courses to Year 11 and Year 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ight Arrow 9"/>
          <p:cNvSpPr/>
          <p:nvPr/>
        </p:nvSpPr>
        <p:spPr>
          <a:xfrm>
            <a:off x="8458200" y="274320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eft Arrow 11"/>
          <p:cNvSpPr/>
          <p:nvPr/>
        </p:nvSpPr>
        <p:spPr>
          <a:xfrm>
            <a:off x="2209680" y="6172200"/>
            <a:ext cx="381240" cy="3049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The BLUE     and RED     Symbol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1599840"/>
            <a:ext cx="64008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lue     symbol means there is a WARNING that you must read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blue dot &amp; the note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You have selected a course that you have previously completed. This course will not count as additional credit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Content Placeholder 8" descr="Red Dots, Blue Dots, .png"/>
          <p:cNvPicPr/>
          <p:nvPr/>
        </p:nvPicPr>
        <p:blipFill>
          <a:blip r:embed="rId1"/>
          <a:stretch/>
        </p:blipFill>
        <p:spPr>
          <a:xfrm>
            <a:off x="6781680" y="1752480"/>
            <a:ext cx="2154240" cy="3983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28600" y="4190760"/>
            <a:ext cx="64008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Red     symbol means there is an ALERT that you must read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red dot &amp; the note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You do not have the proper pre-requisite, please select the proper pre-requisite or speak to your counselor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124080" y="609480"/>
            <a:ext cx="533520" cy="53352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5867280" y="6094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1828800" y="1676520"/>
            <a:ext cx="228600" cy="22860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52480" y="4267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lternate for Electiv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each elective you have selected, you must select an alternat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select your alternates, click the ‘+’ icon on the Alternat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Content Placeholder 6" descr="Alternate.png"/>
          <p:cNvPicPr/>
          <p:nvPr/>
        </p:nvPicPr>
        <p:blipFill>
          <a:blip r:embed="rId1"/>
          <a:stretch/>
        </p:blipFill>
        <p:spPr>
          <a:xfrm>
            <a:off x="6172200" y="1447920"/>
            <a:ext cx="214164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8" descr="Alternative Selections.png"/>
          <p:cNvPicPr/>
          <p:nvPr/>
        </p:nvPicPr>
        <p:blipFill>
          <a:blip r:embed="rId2"/>
          <a:stretch/>
        </p:blipFill>
        <p:spPr>
          <a:xfrm>
            <a:off x="304920" y="3505320"/>
            <a:ext cx="4168800" cy="30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37335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an alternate course for each elective selection by clicking the ‘+’ icon on the alternativ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have to select the co-requisite to match in the second alternat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ight Arrow 7"/>
          <p:cNvSpPr/>
          <p:nvPr/>
        </p:nvSpPr>
        <p:spPr>
          <a:xfrm>
            <a:off x="5791320" y="175248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Georgia"/>
              </a:rPr>
              <a:t>OUR TIME TOGETHER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duation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Read Your Transcri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After High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Get Into a 4 Yea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G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CAA Requirements (Intercollegiate Spor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ge Entrance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TE Pathways at EC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ive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V Guidance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7" descr="C:\Documents and Settings\Vsliwa\Local Settings\Temporary Internet Files\Content.IE5\CUZW7RCY\MC900433842[1].png"/>
          <p:cNvPicPr/>
          <p:nvPr/>
        </p:nvPicPr>
        <p:blipFill>
          <a:blip r:embed="rId1"/>
          <a:stretch/>
        </p:blipFill>
        <p:spPr>
          <a:xfrm>
            <a:off x="6477120" y="1066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lternates and Red      Aler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121932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Red    Alert symbol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    symbol for instructions. Example: “This course has a co-requisite requirement of G274 Spanish 4C. Please add course or see your counselor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add the required course as the next alternate, the Red Alert will dis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do not have the required pre-requisite, add the course or select another alternate cours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SAVE button at the bottom of the pag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Content Placeholder 9" descr="Alternative - Red Dots.png"/>
          <p:cNvPicPr/>
          <p:nvPr/>
        </p:nvPicPr>
        <p:blipFill>
          <a:blip r:embed="rId1"/>
          <a:stretch/>
        </p:blipFill>
        <p:spPr>
          <a:xfrm>
            <a:off x="4952880" y="2666880"/>
            <a:ext cx="3897360" cy="2286000"/>
          </a:xfrm>
          <a:prstGeom prst="rect">
            <a:avLst/>
          </a:prstGeom>
          <a:ln w="0">
            <a:noFill/>
          </a:ln>
        </p:spPr>
      </p:pic>
      <p:sp>
        <p:nvSpPr>
          <p:cNvPr id="265" name="Oval 10"/>
          <p:cNvSpPr/>
          <p:nvPr/>
        </p:nvSpPr>
        <p:spPr>
          <a:xfrm>
            <a:off x="1447920" y="1295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2590920" y="175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5791320" y="304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iploma &amp; Certifications Tab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11430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Diploma &amp; Certifications Tab allows you to review graduation requiremen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 the right you can see the credits you have earned, have planned in course planner, as well as those you have remaining to add into course plann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Quick Summary bar allows you to see your progress.         If your cours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planner is complet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for all 4 years, you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should only se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green and yellow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Content Placeholder 6" descr="Diploma &amp; Certifications.png"/>
          <p:cNvPicPr/>
          <p:nvPr/>
        </p:nvPicPr>
        <p:blipFill>
          <a:blip r:embed="rId1"/>
          <a:stretch/>
        </p:blipFill>
        <p:spPr>
          <a:xfrm>
            <a:off x="3124080" y="3352680"/>
            <a:ext cx="588348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Left Arrow 7"/>
          <p:cNvSpPr/>
          <p:nvPr/>
        </p:nvSpPr>
        <p:spPr>
          <a:xfrm>
            <a:off x="5791320" y="3352680"/>
            <a:ext cx="533160" cy="381240"/>
          </a:xfrm>
          <a:prstGeom prst="leftArrow">
            <a:avLst>
              <a:gd name="adj1" fmla="val 50000"/>
              <a:gd name="adj2" fmla="val 4994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-G and NCAA Requiremen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ing the pull down menu, you can also review your progress in the A-G Requirements as well NCAA Requiremen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Content Placeholder 6" descr="A-G &amp; NCAA Req.png"/>
          <p:cNvPicPr/>
          <p:nvPr/>
        </p:nvPicPr>
        <p:blipFill>
          <a:blip r:embed="rId1"/>
          <a:stretch/>
        </p:blipFill>
        <p:spPr>
          <a:xfrm>
            <a:off x="1676520" y="2133720"/>
            <a:ext cx="5638680" cy="1225440"/>
          </a:xfrm>
          <a:prstGeom prst="rect">
            <a:avLst/>
          </a:prstGeom>
          <a:ln w="0">
            <a:noFill/>
          </a:ln>
        </p:spPr>
      </p:pic>
      <p:pic>
        <p:nvPicPr>
          <p:cNvPr id="275" name="Content Placeholder 7" descr="A-G Requirements.png"/>
          <p:cNvPicPr/>
          <p:nvPr/>
        </p:nvPicPr>
        <p:blipFill>
          <a:blip r:embed="rId2"/>
          <a:stretch/>
        </p:blipFill>
        <p:spPr>
          <a:xfrm>
            <a:off x="1371600" y="3581280"/>
            <a:ext cx="6400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view, Print &amp; Shar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1426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lease review your selections with your parent/guardian before your class returns to the guidance offic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all Red    Alerts and Blue Warning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can print a draft by clicking the print icon at the top right of the course plann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eel free to continue to plan future years. Don’t worry, all other years are for planning only. Only the dashed year matters right now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Content Placeholder 9" descr="Completed year.png"/>
          <p:cNvPicPr/>
          <p:nvPr/>
        </p:nvPicPr>
        <p:blipFill>
          <a:blip r:embed="rId1"/>
          <a:stretch/>
        </p:blipFill>
        <p:spPr>
          <a:xfrm>
            <a:off x="6858000" y="1143000"/>
            <a:ext cx="1371600" cy="5459400"/>
          </a:xfrm>
          <a:prstGeom prst="rect">
            <a:avLst/>
          </a:prstGeom>
          <a:ln w="0">
            <a:noFill/>
          </a:ln>
        </p:spPr>
      </p:pic>
      <p:sp>
        <p:nvSpPr>
          <p:cNvPr id="279" name="Oval 10"/>
          <p:cNvSpPr/>
          <p:nvPr/>
        </p:nvSpPr>
        <p:spPr>
          <a:xfrm>
            <a:off x="5791320" y="2514600"/>
            <a:ext cx="228600" cy="22860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12408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Review &amp; SUBMI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 sure to review ALL required and elective course offerings and YOUR SELECTION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can select and remove courses as often as you want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UNTI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you click the SUBMIT butto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ce you meet with your counselor, your courses will be locked in and will not be chang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Content Placeholder 4" descr="Submit Button.png"/>
          <p:cNvPicPr/>
          <p:nvPr/>
        </p:nvPicPr>
        <p:blipFill>
          <a:blip r:embed="rId1"/>
          <a:stretch/>
        </p:blipFill>
        <p:spPr>
          <a:xfrm>
            <a:off x="5715000" y="2209680"/>
            <a:ext cx="2948040" cy="2667240"/>
          </a:xfrm>
          <a:prstGeom prst="rect">
            <a:avLst/>
          </a:prstGeom>
          <a:ln w="0">
            <a:noFill/>
          </a:ln>
        </p:spPr>
      </p:pic>
      <p:sp>
        <p:nvSpPr>
          <p:cNvPr id="284" name="Right Arrow 5"/>
          <p:cNvSpPr/>
          <p:nvPr/>
        </p:nvSpPr>
        <p:spPr>
          <a:xfrm>
            <a:off x="5029200" y="3429000"/>
            <a:ext cx="838080" cy="5335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ECV CTE PATHWAY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09480" y="1676520"/>
          <a:ext cx="7925040" cy="2166840"/>
        </p:xfrm>
        <a:graphic>
          <a:graphicData uri="http://schemas.openxmlformats.org/drawingml/2006/table">
            <a:tbl>
              <a:tblPr/>
              <a:tblGrid>
                <a:gridCol w="1371600"/>
                <a:gridCol w="1295640"/>
                <a:gridCol w="1828800"/>
                <a:gridCol w="184464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hway Starte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- Printing &amp; 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rt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- Printing &amp; 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</a:tbl>
          </a:graphicData>
        </a:graphic>
      </p:graphicFrame>
      <p:sp>
        <p:nvSpPr>
          <p:cNvPr id="287" name="TextBox 7"/>
          <p:cNvSpPr/>
          <p:nvPr/>
        </p:nvSpPr>
        <p:spPr>
          <a:xfrm>
            <a:off x="91440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s, Media, &amp; Entertainment (AME) Path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4495680"/>
          <a:ext cx="7772400" cy="17989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usiness &amp; Compu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ernational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rtual Enterpr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9"/>
          <p:cNvSpPr/>
          <p:nvPr/>
        </p:nvSpPr>
        <p:spPr>
          <a:xfrm>
            <a:off x="914400" y="3962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ational Business Path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1371600" y="1522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MORE PATHWAY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880" y="3276720"/>
          <a:ext cx="8382240" cy="1463400"/>
        </p:xfrm>
        <a:graphic>
          <a:graphicData uri="http://schemas.openxmlformats.org/drawingml/2006/table">
            <a:tbl>
              <a:tblPr/>
              <a:tblGrid>
                <a:gridCol w="1908360"/>
                <a:gridCol w="2206440"/>
                <a:gridCol w="221004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Year Commi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urses can be taken in any 2 year blo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ro to Fabrication &amp; Wel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dvance Fabrication &amp; Wel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elding Certifications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Evening Cour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92" name="TextBox 5"/>
          <p:cNvSpPr/>
          <p:nvPr/>
        </p:nvSpPr>
        <p:spPr>
          <a:xfrm>
            <a:off x="685800" y="2743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ufacturing &amp; Product Development: We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80880" y="1523880"/>
          <a:ext cx="8458200" cy="1011240"/>
        </p:xfrm>
        <a:graphic>
          <a:graphicData uri="http://schemas.openxmlformats.org/drawingml/2006/table">
            <a:tbl>
              <a:tblPr/>
              <a:tblGrid>
                <a:gridCol w="1395360"/>
                <a:gridCol w="1889280"/>
                <a:gridCol w="2217600"/>
                <a:gridCol w="295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cal Biol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cal Chemi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icrobiology/Biotechnolog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ern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94" name="TextBox 7"/>
          <p:cNvSpPr/>
          <p:nvPr/>
        </p:nvSpPr>
        <p:spPr>
          <a:xfrm>
            <a:off x="762120" y="990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omedical Technology  Path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62120" y="4952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spitality Pathway: Restaurant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80880" y="5486400"/>
          <a:ext cx="8382240" cy="990720"/>
        </p:xfrm>
        <a:graphic>
          <a:graphicData uri="http://schemas.openxmlformats.org/drawingml/2006/table">
            <a:tbl>
              <a:tblPr/>
              <a:tblGrid>
                <a:gridCol w="3962520"/>
                <a:gridCol w="2209680"/>
                <a:gridCol w="2210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Year Commi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urses can be taken in any 2 year blo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MORE ELECTIVE 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762120"/>
          <a:ext cx="3657600" cy="22860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eramics/3-D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Jewelry/3-D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mputer 3D Design &amp; Ani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04920" y="4191120"/>
          <a:ext cx="3657600" cy="24382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ORMING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eginning Guit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ho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ncert/Marching B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eginning Instr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267080" y="762120"/>
          <a:ext cx="4496040" cy="2057400"/>
        </p:xfrm>
        <a:graphic>
          <a:graphicData uri="http://schemas.openxmlformats.org/drawingml/2006/table">
            <a:tbl>
              <a:tblPr/>
              <a:tblGrid>
                <a:gridCol w="44960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 LANGU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panish for Spanish Spea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andarin Chine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267080" y="2971800"/>
          <a:ext cx="4496040" cy="3657600"/>
        </p:xfrm>
        <a:graphic>
          <a:graphicData uri="http://schemas.openxmlformats.org/drawingml/2006/table">
            <a:tbl>
              <a:tblPr/>
              <a:tblGrid>
                <a:gridCol w="449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EL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V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ubl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Leadershi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eer Tu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eacher Pr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eacher Assistant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students w/severe handica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04920" y="3171960"/>
          <a:ext cx="3657600" cy="8665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USTRIAL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(Printing &amp; Graphic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REGISTRATION PROC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Packets distributed late M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back early J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filled out comple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 pictures for next year will be taken in early J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Georgia"/>
              </a:rPr>
              <a:t>WHERE DO I GO FOR HELP?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16" descr="C:\Documents and Settings\Vsliwa\Local Settings\Temporary Internet Files\Content.IE5\ZZWTU0K4\MC900070852[1].wmf"/>
          <p:cNvPicPr/>
          <p:nvPr/>
        </p:nvPicPr>
        <p:blipFill>
          <a:blip r:embed="rId1"/>
          <a:stretch/>
        </p:blipFill>
        <p:spPr>
          <a:xfrm>
            <a:off x="2895480" y="2895480"/>
            <a:ext cx="3429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GRADUATION REQUIREMENTS</a:t>
            </a:r>
            <a:br>
              <a:rPr sz="28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762120"/>
          <a:ext cx="7772400" cy="4343400"/>
        </p:xfrm>
        <a:graphic>
          <a:graphicData uri="http://schemas.openxmlformats.org/drawingml/2006/table">
            <a:tbl>
              <a:tblPr/>
              <a:tblGrid>
                <a:gridCol w="5308560"/>
                <a:gridCol w="246384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Arts or 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ematics (Algebra req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fe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Requir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88"/>
          <p:cNvSpPr/>
          <p:nvPr/>
        </p:nvSpPr>
        <p:spPr>
          <a:xfrm>
            <a:off x="685800" y="5257800"/>
            <a:ext cx="7924680" cy="1455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dditional Requireme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eer Plan – Met with Counselor (Post Secondary Pl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ifornia High School Exit Exam (Math/ Englis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ness Gram – required to be enrolled in PE until Fitness Gram is pass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SCHOOL COUNSELOR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0" y="304812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essa Sliwa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-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743200" y="304812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ri Beach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-Ga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410080" y="304812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ka Stimpert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as-K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01992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orah Samson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Km-O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7" descr="DSC04948"/>
          <p:cNvPicPr/>
          <p:nvPr/>
        </p:nvPicPr>
        <p:blipFill>
          <a:blip r:embed="rId1"/>
          <a:stretch/>
        </p:blipFill>
        <p:spPr>
          <a:xfrm>
            <a:off x="3809880" y="1143000"/>
            <a:ext cx="156240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SC04960"/>
          <p:cNvPicPr/>
          <p:nvPr/>
        </p:nvPicPr>
        <p:blipFill>
          <a:blip r:embed="rId2"/>
          <a:stretch/>
        </p:blipFill>
        <p:spPr>
          <a:xfrm>
            <a:off x="990720" y="4114800"/>
            <a:ext cx="1565280" cy="18813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9"/>
          <p:cNvSpPr/>
          <p:nvPr/>
        </p:nvSpPr>
        <p:spPr>
          <a:xfrm>
            <a:off x="27432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t Udvarhelyi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m-Sh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10" descr="Work Readiness 017"/>
          <p:cNvPicPr/>
          <p:nvPr/>
        </p:nvPicPr>
        <p:blipFill>
          <a:blip r:embed="rId3"/>
          <a:stretch/>
        </p:blipFill>
        <p:spPr>
          <a:xfrm>
            <a:off x="6172200" y="4191120"/>
            <a:ext cx="2286000" cy="17269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1"/>
          <p:cNvSpPr/>
          <p:nvPr/>
        </p:nvSpPr>
        <p:spPr>
          <a:xfrm>
            <a:off x="5334120" y="6019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hanie Pic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ham-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12" descr="Counselor headshots 004"/>
          <p:cNvPicPr/>
          <p:nvPr/>
        </p:nvPicPr>
        <p:blipFill>
          <a:blip r:embed="rId4"/>
          <a:stretch/>
        </p:blipFill>
        <p:spPr>
          <a:xfrm>
            <a:off x="6095880" y="1295280"/>
            <a:ext cx="2362320" cy="1625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Sliwa"/>
          <p:cNvPicPr/>
          <p:nvPr/>
        </p:nvPicPr>
        <p:blipFill>
          <a:blip r:embed="rId5"/>
          <a:stretch/>
        </p:blipFill>
        <p:spPr>
          <a:xfrm>
            <a:off x="914400" y="1143000"/>
            <a:ext cx="1663560" cy="1838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Udvarheyli"/>
          <p:cNvPicPr/>
          <p:nvPr/>
        </p:nvPicPr>
        <p:blipFill>
          <a:blip r:embed="rId6"/>
          <a:stretch/>
        </p:blipFill>
        <p:spPr>
          <a:xfrm>
            <a:off x="3505320" y="4114800"/>
            <a:ext cx="2133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GUIDANCE INFORMATION SPECIALIST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52280" y="312408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enn Recasner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ad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Work Readiness 022"/>
          <p:cNvPicPr/>
          <p:nvPr/>
        </p:nvPicPr>
        <p:blipFill>
          <a:blip r:embed="rId1"/>
          <a:stretch/>
        </p:blipFill>
        <p:spPr>
          <a:xfrm>
            <a:off x="685800" y="4191120"/>
            <a:ext cx="2743200" cy="1874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8"/>
          <p:cNvSpPr/>
          <p:nvPr/>
        </p:nvSpPr>
        <p:spPr>
          <a:xfrm>
            <a:off x="5181480" y="31147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mberly Rold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ad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83772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6172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lene A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 Language Learn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5" descr="Work Readiness 019"/>
          <p:cNvPicPr/>
          <p:nvPr/>
        </p:nvPicPr>
        <p:blipFill>
          <a:blip r:embed="rId2"/>
          <a:stretch/>
        </p:blipFill>
        <p:spPr>
          <a:xfrm>
            <a:off x="838080" y="1143000"/>
            <a:ext cx="2306880" cy="1924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MCj04316140000[1]"/>
          <p:cNvPicPr/>
          <p:nvPr/>
        </p:nvPicPr>
        <p:blipFill>
          <a:blip r:embed="rId3"/>
          <a:stretch/>
        </p:blipFill>
        <p:spPr>
          <a:xfrm>
            <a:off x="5943600" y="990720"/>
            <a:ext cx="2209680" cy="205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MCj04316140000[1]"/>
          <p:cNvPicPr/>
          <p:nvPr/>
        </p:nvPicPr>
        <p:blipFill>
          <a:blip r:embed="rId4"/>
          <a:stretch/>
        </p:blipFill>
        <p:spPr>
          <a:xfrm>
            <a:off x="58672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8"/>
          <p:cNvSpPr/>
          <p:nvPr/>
        </p:nvSpPr>
        <p:spPr>
          <a:xfrm>
            <a:off x="5791320" y="6211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ra Conshaf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unseling Secreta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COLLEGE &amp; CAREER CENTER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Open EVERYDAY at Lunch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685800" y="1828800"/>
            <a:ext cx="75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there to help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Applic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Aid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larship sear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Secondary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ript Revie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 . . .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228600" y="60958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el free to just stop in, say hello and eat lun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5" descr="C:\Users\vsee34\AppData\Local\Microsoft\Windows\Temporary Internet Files\Content.IE5\A1I82DI4\MC900232101[1].wmf"/>
          <p:cNvPicPr/>
          <p:nvPr/>
        </p:nvPicPr>
        <p:blipFill>
          <a:blip r:embed="rId1"/>
          <a:stretch/>
        </p:blipFill>
        <p:spPr>
          <a:xfrm>
            <a:off x="228600" y="3657600"/>
            <a:ext cx="1828800" cy="2000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C:\Users\vsee34\AppData\Local\Microsoft\Windows\Temporary Internet Files\Content.IE5\A1I82DI4\MC900037084[1].wmf"/>
          <p:cNvPicPr/>
          <p:nvPr/>
        </p:nvPicPr>
        <p:blipFill>
          <a:blip r:embed="rId2"/>
          <a:stretch/>
        </p:blipFill>
        <p:spPr>
          <a:xfrm>
            <a:off x="7162920" y="160020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Georgia"/>
              </a:rPr>
              <a:t>QUESTIONS?</a:t>
            </a:r>
            <a:endParaRPr b="0" lang="en-US" sz="6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337" name="Picture 5" descr="C:\Documents and Settings\Vsliwa\Local Settings\Temporary Internet Files\Content.IE5\FJGULNYN\MC900441902[1].wmf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HOW TO READ YOUR TRANSCRIPT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7" name="Content Placeholder 5" descr="Transcript Handout.jpg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LIFE AFTER HIGH SCHOOL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4-year College or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UC, CSU, private colleges, out of stat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ommunity Colle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Grossmont, Cuyamaca, Mesa, City, Southwester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echnical/Trade Schools (Voca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Culinary, Beauty, Arts, Automotive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Apprentice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lumbing, Sheet Metal, Electrical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Armed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Navy, Marines, National Guard, Air Force, Army, Coast Guar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MCj04283310000[1]"/>
          <p:cNvPicPr/>
          <p:nvPr/>
        </p:nvPicPr>
        <p:blipFill>
          <a:blip r:embed="rId1"/>
          <a:stretch/>
        </p:blipFill>
        <p:spPr>
          <a:xfrm>
            <a:off x="6400800" y="4267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183816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vsee34\AppData\Local\Microsoft\Windows\Temporary Internet Files\Content.IE5\A1I82DI4\MP900442364[1].jpg"/>
          <p:cNvPicPr/>
          <p:nvPr/>
        </p:nvPicPr>
        <p:blipFill>
          <a:blip r:embed="rId3"/>
          <a:stretch/>
        </p:blipFill>
        <p:spPr>
          <a:xfrm>
            <a:off x="5791320" y="11430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A-G REQUIREMENTS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(CSU/ UC required)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71600"/>
          <a:ext cx="8153280" cy="4614840"/>
        </p:xfrm>
        <a:graphic>
          <a:graphicData uri="http://schemas.openxmlformats.org/drawingml/2006/table">
            <a:tbl>
              <a:tblPr/>
              <a:tblGrid>
                <a:gridCol w="469800"/>
                <a:gridCol w="3449880"/>
                <a:gridCol w="1960560"/>
                <a:gridCol w="227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omm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lgebra I, Geometry, Algebra II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b Sc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ign Langu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+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/ Performing Ar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+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lege Prep E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83"/>
          <p:cNvSpPr/>
          <p:nvPr/>
        </p:nvSpPr>
        <p:spPr>
          <a:xfrm>
            <a:off x="4572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courses must be at the college prep level or higher and be completed with a grade of “C” or bet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orgia"/>
              </a:rPr>
              <a:t>NCAA REQUIREMENTS – 2013 &amp; Beyond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Inter-collegiate Sports)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0880" y="1523880"/>
          <a:ext cx="8077320" cy="3465720"/>
        </p:xfrm>
        <a:graphic>
          <a:graphicData uri="http://schemas.openxmlformats.org/drawingml/2006/table">
            <a:tbl>
              <a:tblPr/>
              <a:tblGrid>
                <a:gridCol w="4462560"/>
                <a:gridCol w="1768320"/>
                <a:gridCol w="1846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e Cour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tural/Physical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 Additional English, Math Or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onal Courses (from any area above, foreign language or nondoctrinal religion/ philosoph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94"/>
          <p:cNvSpPr/>
          <p:nvPr/>
        </p:nvSpPr>
        <p:spPr>
          <a:xfrm>
            <a:off x="457200" y="5181480"/>
            <a:ext cx="800100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Admissions Tests and GPA Requireme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I – a sliding scale for test score and grade point ave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II – Minimum SAT is 820; Minimum ACT sum is 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COLLEGE ENTRANCE EXAM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PSAT in Octo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PSAT in Octo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in late Sp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ACT in late Sp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Subject tests –  If your universities of interest recommend SAT Subject tests, take it  immediately after completing the cou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in early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ACT in early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Subject tests –  If your universities of interest require SAT Subject test, take it  immediately after completing the cou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UPCOMING TEST DATES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 Reasoning and SAT Subjec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5/5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4/6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6/2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5/8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 with Writ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4/14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3/9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6/9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5/4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 waive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available for those who qualify.  See your Counselor in the Guidance Off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2:28Z</dcterms:created>
  <dc:creator>Jennifer Rodriguez</dc:creator>
  <dc:description/>
  <dc:language>en-US</dc:language>
  <cp:lastModifiedBy>Mcadwell</cp:lastModifiedBy>
  <dcterms:modified xsi:type="dcterms:W3CDTF">2012-04-11T14:43:34Z</dcterms:modified>
  <cp:revision>178</cp:revision>
  <dc:subject/>
  <dc:title>El Cajon Valley High School</dc:title>
</cp:coreProperties>
</file>